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4D1E-D952-4411-9815-1F252C2E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479-C3BA-4F5E-9CE2-336C642A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A8D-FFFB-4335-8C4C-BC5DF92C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C4E8-CA69-4A95-8075-B34CD598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AF36-CFF1-41B7-85F3-F01E1012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D9B-3689-482E-A79D-F8814488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BF03-4AC7-4A2A-B31A-F8E8D364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0EC-FB39-4C6E-B9AE-2BD24FA4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214-0115-4430-854E-F204D663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5D9-2B78-4023-8715-1C8BFF25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81B1-B517-460E-AF24-4472B9F7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A38-ADA1-4607-81A2-A440653D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ED09-8678-46A7-8E55-A6D99F9CC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bina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236232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209680"/>
            <a:ext cx="457200" cy="609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3124080"/>
            <a:ext cx="4572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971800"/>
            <a:ext cx="60984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88620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3809880"/>
            <a:ext cx="914400" cy="762120"/>
          </a:xfrm>
          <a:prstGeom prst="pentagon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724280"/>
            <a:ext cx="457200" cy="609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4648320"/>
            <a:ext cx="60984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419720" y="2514600"/>
          <a:ext cx="4038480" cy="2070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t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nn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g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ley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ymna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3080" y="304920"/>
            <a:ext cx="8458200" cy="825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n experiment you have to choose two of the three shapes be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99072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990720"/>
            <a:ext cx="457200" cy="6094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838080"/>
            <a:ext cx="60948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75248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1676520"/>
            <a:ext cx="121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1752480"/>
            <a:ext cx="1066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514600"/>
            <a:ext cx="68580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draw all the possible choices that can be ma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200400"/>
            <a:ext cx="1600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3200400"/>
            <a:ext cx="1295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809880"/>
            <a:ext cx="4572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3809880"/>
            <a:ext cx="457200" cy="609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464832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4572000"/>
            <a:ext cx="60948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486400"/>
            <a:ext cx="457200" cy="6094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410080"/>
            <a:ext cx="60948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3733920"/>
            <a:ext cx="2971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hree possible combinations of sha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28600"/>
            <a:ext cx="84582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e same experiment is repeated but with 4 sha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91440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914400"/>
            <a:ext cx="457200" cy="6094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762120"/>
            <a:ext cx="60948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1676520"/>
            <a:ext cx="1447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1600200"/>
            <a:ext cx="1219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1676520"/>
            <a:ext cx="1067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762120"/>
            <a:ext cx="914400" cy="761760"/>
          </a:xfrm>
          <a:prstGeom prst="pentagon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1600200"/>
            <a:ext cx="1523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ta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2362320"/>
            <a:ext cx="655308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draw all the possible choices for four sha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3048120"/>
            <a:ext cx="1219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971800"/>
            <a:ext cx="121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3581280"/>
            <a:ext cx="4572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3429000"/>
            <a:ext cx="457200" cy="6094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434340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4191120"/>
            <a:ext cx="60984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105520"/>
            <a:ext cx="4572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5029200"/>
            <a:ext cx="914400" cy="762120"/>
          </a:xfrm>
          <a:prstGeom prst="pentagon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943600"/>
            <a:ext cx="457200" cy="6094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5867280"/>
            <a:ext cx="60984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3048120"/>
            <a:ext cx="0" cy="3429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971800"/>
            <a:ext cx="1219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2895480"/>
            <a:ext cx="121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3581280"/>
            <a:ext cx="457200" cy="6098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429000"/>
            <a:ext cx="914400" cy="762120"/>
          </a:xfrm>
          <a:prstGeom prst="pentagon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4343400"/>
            <a:ext cx="60948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10280" y="4267080"/>
            <a:ext cx="914400" cy="762120"/>
          </a:xfrm>
          <a:prstGeom prst="pentagon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5562720"/>
            <a:ext cx="2819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6 possible combin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228600"/>
            <a:ext cx="853452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chool’s P.E department offers pupils a choice of two activitie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838080"/>
            <a:ext cx="31244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ivities must be chosen from this tab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0" y="914400"/>
          <a:ext cx="4038480" cy="2070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t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nn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g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ley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ymna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380880" y="3124080"/>
            <a:ext cx="79632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down the different choices a pupil could mak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360" y="373392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52760" y="373392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360" y="434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52760" y="434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36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908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g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36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5276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mna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04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638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10160" y="373392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67560" y="373392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6019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019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g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6400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6400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mna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4419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ley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952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ley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4876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g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ley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5410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mna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5880"/>
            <a:ext cx="4267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ine possible cho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3657600"/>
            <a:ext cx="0" cy="3200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8:26:44Z</dcterms:created>
  <dc:creator>LT Scotland</dc:creator>
  <dc:description/>
  <dc:language>en-US</dc:language>
  <cp:lastModifiedBy>Computing Department</cp:lastModifiedBy>
  <dcterms:modified xsi:type="dcterms:W3CDTF">2004-08-10T11:55:14Z</dcterms:modified>
  <cp:revision>11</cp:revision>
  <dc:subject/>
  <dc:title>Access 3 Mathematics: Unit 1 Outcome 3 Combinations.</dc:title>
</cp:coreProperties>
</file>